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1D8-5E32-43F5-8A52-973E22B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915-253B-409B-A8BC-C91A002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C9E-599F-447C-A1B5-E3EC3446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B69-A1C1-4655-9A6D-69254B1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EF2-C3E8-4430-AA29-9359F2D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3BF-44E8-466A-9937-2E8C009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1BD-E100-46D9-8120-7EC6C7D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E38-C09F-4C69-8B62-EE98593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345-C8BD-4B3A-A479-629ADB4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A3D-68F2-4420-9B42-71107B3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EAF-2DDF-4A43-9DB7-D05E3BE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291-881A-4981-AD64-9B3DA81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560-34BC-4F43-8C6E-43781D04AD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Esercitazione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ilizzo di un array per la visualizzazione de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parametr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gli usi di htp… con ModGU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‘1985’,’OttantaCinque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e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2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9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0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51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52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57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58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59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0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cominciar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~ghelli/bdl09/esercizi/ese3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oppure visitare la pagina http://www.di.unipi.it/~ghelli/didattica/bdl09/bdl09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sqlDevelo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mettersi in p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qlDeveloper apro e compilo i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create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insert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macs o wordpa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stituisco tutte le occorrenze di XXX e MioAccountOracle con il mio nome nome_utente e sal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ico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 ese2/ese2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69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pks, modGUI.pkb, ese3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se le modifiche sono avvenute controllando i pacchetti P_ESE3 e MODG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2.cli.di.unipi.it/pls/mioAccountOracle.p_ese3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60020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2bdl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2.cli.di.unipi.it/pls/MioAccountOracle.p_ese3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ghelli</cp:lastModifiedBy>
  <dcterms:modified xsi:type="dcterms:W3CDTF">2009-04-23T10:31:49Z</dcterms:modified>
  <cp:revision>52</cp:revision>
  <dc:subject/>
  <dc:title>Operazione immissione persona</dc:title>
</cp:coreProperties>
</file>