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777413" cy="6642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D8C8-EC4F-406F-864E-7520D3C9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3948480"/>
            <a:ext cx="7769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6E7E-5592-4AFE-9B96-FF8E1C66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8E44-092B-4890-A640-7FAB7091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60020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394848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94848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A20F-CAA9-48A4-B174-E87C1AF1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227-76EB-478C-B626-651AB64C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6C30-B76B-4E54-A571-0A43B518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A6C4-E239-48C7-B144-04CF4FF8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31D3-4E58-480A-8CEC-6381197E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6880" y="304560"/>
            <a:ext cx="776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1FA6-487D-4147-8BAF-D1C726B1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D92B-A736-43D5-900E-4DAE3593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9C8D-CDE7-4F30-9105-A94F58C9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7769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A1D9-3291-4E3D-9312-53EC4793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3931-250E-4AEB-88DC-77A2256E796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sercitazione 3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915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Utilizzo di un array per la visualizzazione dei da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Materiale di support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Lucidi lezione del 20 marzo 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http://www.di.unipi.it/~ghelli/didattica/bdl06/bdl06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icevere liste di stringh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822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sco un tipo tabella ed un valore tabella vuo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HTTPCognomi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IS TABLE OF VARCHAR2(15) INDEX BY BINARY_INTEGE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EmptyHTTPCognomi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HTTPCognomiT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8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 uso come tipo parametro e valore defaul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procedur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mostra(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Cognomi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HTTPCognomi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defaul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EmptyHTTPCognomi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serciz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e un messaggio diverso quando la list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uo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stituire gli usi di htp… con ModGUI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stituire la scelta dell’anno di nascita: invece di usare una formText usare una combo box per scegliere tra 1985 e 1995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riSelect(‘LAnnoNascita’); AggiungiSelect(‘1985’,’OttantaCinque’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iudiSelec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 stesso, ma estraendo gli anni dal BD (senza distinguere stavolta 1985 e ’OttantaCinque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sferire l’esempio su di una relazione dello 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perazione ricerca e selezione person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769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gliamo implementare il seguente proget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06560" y="2232000"/>
            <a:ext cx="2908440" cy="1197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0360" y="2270160"/>
            <a:ext cx="2187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mmissione paramet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2880" y="2536920"/>
            <a:ext cx="107136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gn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no 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2666880"/>
            <a:ext cx="725760" cy="9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2895480"/>
            <a:ext cx="72576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3124080"/>
            <a:ext cx="725760" cy="9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67080" y="34290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8880" y="179388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52760" y="1871640"/>
            <a:ext cx="1787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mmettiParamet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8640" y="3429000"/>
            <a:ext cx="666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e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3809880"/>
            <a:ext cx="289548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82960" y="3848040"/>
            <a:ext cx="1641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sultati rice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4267080"/>
            <a:ext cx="7452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495680"/>
            <a:ext cx="7452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724280"/>
            <a:ext cx="7452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5640" y="4114800"/>
            <a:ext cx="862560" cy="13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me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m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me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....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5562720"/>
            <a:ext cx="2895480" cy="1143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000" y="5181480"/>
            <a:ext cx="80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s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0360" y="5562720"/>
            <a:ext cx="1486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rsone scel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5778360"/>
            <a:ext cx="129528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m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me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....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133360" y="61722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617220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133360" y="44956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449568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getto di dettagli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tato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perazione: immettiParamet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rametri: IlNome, IlCognome, LAnnoNasc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tato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perazione: ce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rametri: IlNome, IlCognome, LAnnoNasc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tato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perazione: mos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rametri: TABLE di VARCHAR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Per cominciare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151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reo una directory ~/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3b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opio il contenuto della directory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~ghelli/bdl06/esercizi/ese3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nella directory ~/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3b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oppure visitare la pagina http://www.di.unipi.it/~ghelli/didattica/bdl06/bdl06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Mi connetto a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oracle2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via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sqlDeveloper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tart – programs - oracle – sqlDevelo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pecificare nome utente di Oracle e password per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oracl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ervice: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oracl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Per mettersi in par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e non ho già creato una tabella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Persone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nell’ultima lezio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on sqlDeveloper apro e compilo i file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ese/create.sql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ese1/insert.sql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pro il file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2/ese2.pks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(possibilmente con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macs o wordpad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ostituisco tutte le occorrenze di XXX e MioAccountOracle con il mio nome nome_utente e sal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arico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2/ese2.pks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ed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 ese2/ese2.pk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Per implementa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769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pro e compilo, nell’ordine, i file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modGUI.pks, modGUI.pkb, ese3.pks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ed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3.pk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Verifico se le modifiche sono avvenute controllando i pacchetti P_ESE3 e MODGU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Verifico il funzionamento dell’applicazione aprendo un browser all’indirizzo: </a:t>
            </a:r>
            <a:r>
              <a:rPr b="0" i="1" lang="it-IT" sz="2800" spc="-1" strike="noStrike">
                <a:solidFill>
                  <a:srgbClr val="ffff00"/>
                </a:solidFill>
                <a:latin typeface="Times New Roman"/>
              </a:rPr>
              <a:t>http://oracle2.cli.di.unipi.it/pls/mioAccountOracle.p_ese3.immettiParamet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vocare l’applicazione dal Web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6880" y="1600200"/>
            <a:ext cx="754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er invocare la procedura dal Web, modifico il file </a:t>
            </a: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~/public_html/ese2bdl/menu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html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creato alla precedente lezione sul mio spazio web, e aggiungo una form per la chiamata della procedura </a:t>
            </a: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MioAccountOracle.p_ese2.immettiParamet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&lt;FORM METHOD="GET" ACTION="http://oracle2.cli.di.unipi.it/pls/MioAccountOracle.p_ese3.immettiParametr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&lt;INPUT TYPE= "SUBMIT" VALUE= "Cerca e seleziona Person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&lt;/FORM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pedire e ricevere liste di stringh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 lista di string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pedita da una UR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user.pack.proc?a=10&amp;a=20&amp;a=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 web listener sa che il tipo di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user.pack.pro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ABLE OF VARCHAR2(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XXX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 INDEX BY BINARY_INTE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uce la URL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YPE parTable IS TABLE OF VARCHAR2(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XXX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 INDEX B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INARY_INTEGE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rTable 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(1):=10; a(2):=20; a(3):=3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user.pack.proc(a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pedire liste di stringh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a lista di stringh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pedita da una UR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user.pack.proc?a=10&amp;a=20&amp;a=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vero da una form ‘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CTION="user.pack.proc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 con tanti componenti input che hanno lo stesso nome ‘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INPUT TYPE="checkbox" NAME="ICognomi" VALUE="Ross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INPUT TYPE="checkbox" NAME="ICognomi" VALUE="Rossan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INPUT TYPE="checkbox" NAME="ICognomi" VALUE="Rossett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8T12:51:06Z</dcterms:created>
  <dc:creator>Giorgio Ghelli</dc:creator>
  <dc:description/>
  <dc:language>en-US</dc:language>
  <cp:lastModifiedBy>ghelli</cp:lastModifiedBy>
  <dcterms:modified xsi:type="dcterms:W3CDTF">2006-03-21T11:14:09Z</dcterms:modified>
  <cp:revision>50</cp:revision>
  <dc:subject/>
  <dc:title>Operazione immissione persona</dc:title>
</cp:coreProperties>
</file>