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6F0-B59D-4359-B8D1-9BAB7F5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F61-9B69-4E66-A99A-7AFCF58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151-C576-470B-A0C2-EA468EBE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E18-01DA-40FB-AD55-CDED1723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AB9-4767-4C3B-9F1D-CBD9EEA0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3CC-95F2-46DC-9CD3-3BD9E9E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D30-9EA6-402C-9F4F-8F168605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90E-68FE-4BF7-A185-2522FE3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034-CCC4-4C53-B689-0D5F5BC7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4E5-5E9E-4DC9-97B3-38CD4E1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09A-282C-4C11-834A-84B89A7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A62-A831-4B73-8A04-C9374EC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645-1B8A-48CA-8375-48807D116F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 (1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2b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~ghelli/bdl03/ese2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ella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cl.oracle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qlPlus Worksheet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art – programs - oracle – database administration – sqlplus work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pecificare nome utente di Oracle e password per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rcl.oracle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ervice: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rcl.oracle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 SQLPlus WorkSheet apro e compilo i file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~/ese2bdl/create.sq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~/ese2bdl/insert.sq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~/ese2bdl/ese2.sql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mac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ostituisco tutte le occorrenze di XXX con il mio nome utente e sal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 (2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sql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.sq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1.cli.di.unipi.it/webdb/mioAccountOracle.p_ese2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1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1.cli.di.unipi.it/webdb/MioAccountOracle.p_ese2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re tutti gli usi di htp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1985,’OttantaCinque’); 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manghi</cp:lastModifiedBy>
  <dcterms:modified xsi:type="dcterms:W3CDTF">2003-04-08T15:33:53Z</dcterms:modified>
  <cp:revision>39</cp:revision>
  <dc:subject/>
  <dc:title>Operazione immissione persona</dc:title>
</cp:coreProperties>
</file>