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777413" cy="6642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13E-22F9-47BD-9E99-0909AB09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515-0479-42DA-B2CC-B90F6AD4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E50-D664-4E88-BE9B-ADA21097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DAA3-2048-436D-882D-DE5CF64A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EA8-6A86-43C9-8A69-B749BA6D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C34-5D4C-43B6-B888-D01A29E8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DC8-42E3-4369-8C9F-AA801377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345-E2DD-462D-A3CC-6F5D3176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6880" y="304560"/>
            <a:ext cx="776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67EE-6C56-4E6B-82B1-02E8F001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8D95-AF6D-47FC-A6D8-8506727D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E6F2-D903-4953-B1DA-ACF18181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922-8D1F-4688-A1EE-E5827D2B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F2AF-456D-484C-A95F-B89B22103BC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Operazione ricerca e selezione person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769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gliamo implementare il seguente proget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6560" y="2232000"/>
            <a:ext cx="2908440" cy="1197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0360" y="2270160"/>
            <a:ext cx="2187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mmissione paramet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2880" y="2536920"/>
            <a:ext cx="107136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ogn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Anno 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2666880"/>
            <a:ext cx="725760" cy="9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2895480"/>
            <a:ext cx="72576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3124080"/>
            <a:ext cx="725760" cy="9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34290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179388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52760" y="1871640"/>
            <a:ext cx="1787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mmettiParamet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8640" y="3429000"/>
            <a:ext cx="666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3809880"/>
            <a:ext cx="289548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82960" y="3848040"/>
            <a:ext cx="1641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Risultati ri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42670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4956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47242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5640" y="4114800"/>
            <a:ext cx="862560" cy="13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.....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5562720"/>
            <a:ext cx="289548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000" y="5181480"/>
            <a:ext cx="80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mos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0360" y="5562720"/>
            <a:ext cx="1486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Persone scel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5778360"/>
            <a:ext cx="129528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.....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133360" y="61722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617220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33360" y="44956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449568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getto di dettagli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immettiParamet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IlNome, IlCognome, LAnnoNasc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ce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IlNome, IlCognome, LAnnoNasc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mos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TABLE di VARCHA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er implementare (1/2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8151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reo una directory ~/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ese2bd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opio il contenuto della directory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~ghelli/bdl03/ese2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nella direc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Mi connetto a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orcl.oracle1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via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SqlPlus Worksheet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tart – programs - oracle – database administration – sqlplus workshe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pecificare nome utente di Oracle e password per </a:t>
            </a: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orcl.oracle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ervice: </a:t>
            </a: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orcl.oracle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e non ho già creato una tabella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Person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nell’ultima lezio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Con SQLPlus WorkSheet apro e compilo i file </a:t>
            </a: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~/ese2bdl/create.sql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~/ese2bdl/insert.sql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Apro il file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~/ese2bdl/ese2.sql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(possibilmente con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emacs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ostituisco tutte le occorrenze di XXX con il mio nome utente e sal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er implementare (2/2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pro e compilo, nell’ordine, i file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modGUI.sql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2.sq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erifico il funzionamento dell’applicazione aprendo un browser all’indirizzo: </a:t>
            </a:r>
            <a:r>
              <a:rPr b="0" i="1" lang="it-IT" sz="2800" spc="-1" strike="noStrike">
                <a:solidFill>
                  <a:srgbClr val="ffff00"/>
                </a:solidFill>
                <a:latin typeface="Times New Roman"/>
              </a:rPr>
              <a:t>http://oracle1.cli.di.unipi.it/webdb/mioAccountOracle.p_ese2.immettiParamet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vocare l’applicazione dal Web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er invocare la procedura dal Web, modifico il file 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~/public_html/ese1/menu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html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creato alla precedente lezione sul mio spazio web, e aggiungo una form per la chiamata della procedura 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mioAccountOracle.p_ese2.immettiParamet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lt;FORM METHOD="GET" ACTION="http://oracle1.cli.di.unipi.it/webdb/MioAccountOracle.p_ese2.immettiParametr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lt;INPUT TYPE= "SUBMIT" VALUE= "Cerca e seleziona Person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&lt;/FORM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pedire e riceve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lista di string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pedita da una UR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user.pack.proc?a=10&amp;a=20&amp;a=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 web listener sa che il tipo di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user.pack.pro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ABLE OF VARCHAR2(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XXX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 INDEX BY BINARY_INTE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uce la URL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YPE parTable IS TABLE OF VARCHAR2(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XXX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 INDEX B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INARY_INTEG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rTable 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(1):=10; a(2):=20; a(3):=3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user.pack.proc(a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pedi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a lista di stringh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pedita da una UR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user.pack.proc?a=10&amp;a=20&amp;a=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vero da una form ‘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CTION="user.pack.proc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 con tanti componenti input che hanno lo stesso nome ‘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an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ett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iceve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822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sco un tipo tabella ed un valore tabella vuo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IS TABLE OF VARCHAR2(15) INDEX BY BINARY_INTEG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mptyHTTPCognomi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8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 uso come tipo e valore defaul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procedur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mostra(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Cognomi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defaul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mptyHTTPCognomi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serciz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e un messaggio diverso quando la list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uo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iminare tutti gli usi di htp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stituire la scelta dell’anno di nascita: invece di usare una formText usare una combo box per scegliere tra 1985 e 1995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riSelect(‘LAnnoNascita’); AggiungiSelect(1985,’OttantaCinque’); ChiudiSelec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 stesso, ma estrando gli anni dal BD (senza distinguere stavolta 1985 e ’OttantaCinque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sferire l’esempio su di una relazione dello 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8T12:51:06Z</dcterms:created>
  <dc:creator>Giorgio Ghelli</dc:creator>
  <dc:description/>
  <dc:language>en-US</dc:language>
  <cp:lastModifiedBy>manghi</cp:lastModifiedBy>
  <dcterms:modified xsi:type="dcterms:W3CDTF">2003-04-08T15:33:53Z</dcterms:modified>
  <cp:revision>39</cp:revision>
  <dc:subject/>
  <dc:title>Operazione immissione persona</dc:title>
</cp:coreProperties>
</file>