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777413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EB9-811C-4790-A2DE-A295025A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12C-543A-4B60-8950-9989BF4F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E7C-5C8C-4330-BF0C-8C52BBCA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201-6974-4D0D-A729-EC1B2988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C24-8C84-4F39-A3EC-E1EA1D87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E53-6F7D-4E77-893A-26AB9EC8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991-F632-4826-B614-B94BF281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5D3-1E68-47D9-A2AC-73DD1810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6880" y="304560"/>
            <a:ext cx="77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491-F1E8-478D-BB01-F3A34252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964-F707-4197-AD9E-7B5D1E4A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5F0-5613-482F-9622-BC8F9FAE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AE1-A4C2-4415-B4F0-7D3E1C92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BBF4-7F55-47A8-BB2D-E9F7553FEC2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Esercitazione 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tilizzo di un array per la visualizzazione dei d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22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sco un tipo tabella ed un valore tabella vuo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S TABLE OF VARCHAR2(15) INDEX BY 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uso come tipo parametro e valore 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procedu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ostra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Cognomi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defaul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z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e un messaggio diverso quando la lis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u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gli usi di htp… con ModGUI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la scelta dell’anno di nascita: invece di usare una formText usare una combo box per scegliere tra 1985 e 199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Select(‘LAnnoNascita’); AggiungiSelect(‘1985’,’OttantaCinque’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udiSele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 stesso, ma estraendo gli anni dal BD (senza distinguere stavolta 1985 e ’OttantaCinq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sferire l’esempio su di una relazione dello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Operazione ricerca e selezione perso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ogliamo implementare il seguente proget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806560" y="2232000"/>
            <a:ext cx="2908440" cy="119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970360" y="2270160"/>
            <a:ext cx="218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issione 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972880" y="2536920"/>
            <a:ext cx="107136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g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nno 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724280" y="26668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724280" y="2895480"/>
            <a:ext cx="72576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724280" y="31240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4267080" y="3429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4268880" y="179388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4352760" y="1871640"/>
            <a:ext cx="178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etti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40"/>
          <p:cNvSpPr/>
          <p:nvPr/>
        </p:nvSpPr>
        <p:spPr>
          <a:xfrm>
            <a:off x="4418640" y="3429000"/>
            <a:ext cx="66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1"/>
          <p:cNvSpPr/>
          <p:nvPr/>
        </p:nvSpPr>
        <p:spPr>
          <a:xfrm>
            <a:off x="2819520" y="3809880"/>
            <a:ext cx="289548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2"/>
          <p:cNvSpPr/>
          <p:nvPr/>
        </p:nvSpPr>
        <p:spPr>
          <a:xfrm>
            <a:off x="2982960" y="3848040"/>
            <a:ext cx="16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isultat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3048120" y="42670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49"/>
          <p:cNvSpPr/>
          <p:nvPr/>
        </p:nvSpPr>
        <p:spPr>
          <a:xfrm>
            <a:off x="3048120" y="44956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50"/>
          <p:cNvSpPr/>
          <p:nvPr/>
        </p:nvSpPr>
        <p:spPr>
          <a:xfrm>
            <a:off x="3048120" y="47242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51"/>
          <p:cNvSpPr/>
          <p:nvPr/>
        </p:nvSpPr>
        <p:spPr>
          <a:xfrm>
            <a:off x="3275640" y="4114800"/>
            <a:ext cx="86256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52"/>
          <p:cNvSpPr/>
          <p:nvPr/>
        </p:nvSpPr>
        <p:spPr>
          <a:xfrm>
            <a:off x="426708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53"/>
          <p:cNvSpPr/>
          <p:nvPr/>
        </p:nvSpPr>
        <p:spPr>
          <a:xfrm>
            <a:off x="2819520" y="5562720"/>
            <a:ext cx="28954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54"/>
          <p:cNvSpPr/>
          <p:nvPr/>
        </p:nvSpPr>
        <p:spPr>
          <a:xfrm>
            <a:off x="4419000" y="51814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o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5"/>
          <p:cNvSpPr/>
          <p:nvPr/>
        </p:nvSpPr>
        <p:spPr>
          <a:xfrm>
            <a:off x="2970360" y="5562720"/>
            <a:ext cx="148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ersone scel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56"/>
          <p:cNvSpPr/>
          <p:nvPr/>
        </p:nvSpPr>
        <p:spPr>
          <a:xfrm>
            <a:off x="2971800" y="5778360"/>
            <a:ext cx="12952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57"/>
          <p:cNvSpPr/>
          <p:nvPr/>
        </p:nvSpPr>
        <p:spPr>
          <a:xfrm flipH="1">
            <a:off x="2133360" y="61722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58"/>
          <p:cNvSpPr/>
          <p:nvPr/>
        </p:nvSpPr>
        <p:spPr>
          <a:xfrm>
            <a:off x="5715000" y="61722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59"/>
          <p:cNvSpPr/>
          <p:nvPr/>
        </p:nvSpPr>
        <p:spPr>
          <a:xfrm flipH="1">
            <a:off x="2133360" y="4495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60"/>
          <p:cNvSpPr/>
          <p:nvPr/>
        </p:nvSpPr>
        <p:spPr>
          <a:xfrm>
            <a:off x="571500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rogetto di dettagli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c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mo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TABLE di VARCHA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cominciar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1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reo un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pio il contenuto della directory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~ghelli/bdl09/esercizi/ese3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l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oppure visitare la pagina http://www.di.unipi.it/~ghelli/didattica/bdl09/bdl09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i connetto 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oracl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sqlDevelo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mettersi in par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e non ho già creato una tabell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Perso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nell’ultima lezio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 sqlDeveloper apro e compilo i fi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1/create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1/insert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il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(possibilmente con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macs o wordpad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ostituisco tutte le occorrenze di XXX e MioAccountOracle con il mio nome nome_utente e sal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rico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 ese2/ese2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769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e compilo, nell’ordine, i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modGUI.pks, modGUI.pkb, ese3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se le modifiche sono avvenute controllando i pacchetti P_ESE3 e MODG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il funzionamento dell’applicazione aprendo un browser all’indirizzo: </a:t>
            </a:r>
            <a:r>
              <a:rPr b="0" i="1" lang="it-IT" sz="2800" spc="-1" strike="noStrike">
                <a:solidFill>
                  <a:srgbClr val="ffff00"/>
                </a:solidFill>
                <a:latin typeface="Times New Roman"/>
              </a:rPr>
              <a:t>http://oracle2.cli.di.unipi.it/pls/mioAccountOracle.p_ese3.immettiParam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vocare l’applicazione dal Web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6880" y="160020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invocare la procedura dal Web, modifico il file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~/public_html/ese2bdl/menu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html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reato alla precedente lezione sul mio spazio web, e aggiungo una form per la chiamata della procedura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MioAccountOracle.p_ese2.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FORM METHOD="GET" ACTION="http://oracle2.cli.di.unipi.it/pls/MioAccountOracle.p_ese3.immettiParametr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INPUT TYPE= "SUBMIT" VALUE= "Cerca e seleziona Person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e 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 web listener sa che il tipo di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 BINARY_INTE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uce la URL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parTable IS 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rTable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(1):=10; a(2):=20; a(3):=3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(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vero da una form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TION="user.pack.proc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con tanti componenti input che hanno lo stesso nome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an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ett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2:51:06Z</dcterms:created>
  <dc:creator>Giorgio Ghelli</dc:creator>
  <dc:description/>
  <dc:language>en-US</dc:language>
  <cp:lastModifiedBy>ghelli</cp:lastModifiedBy>
  <dcterms:modified xsi:type="dcterms:W3CDTF">2009-04-23T10:31:49Z</dcterms:modified>
  <cp:revision>52</cp:revision>
  <dc:subject/>
  <dc:title>Operazione immissione persona</dc:title>
</cp:coreProperties>
</file>