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9E-24CB-47ED-922A-0B594CA3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C2D-D563-4C60-A769-7B5E22B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A5F-03D4-454F-B95E-68011427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598-50ED-43BB-BB55-F9161D24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94D-8F98-49AD-90B5-79D53DA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910-5D7B-4DF3-8CFD-0DD71E1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1F8-809E-4E28-9FBD-43A12DF7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A02-1BFF-419E-97AB-ECBCBE8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60B-C7F3-451C-8444-A15D8AC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C66-1BDE-4A5C-8584-E48E25A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275-FB64-486C-AEB5-01BF6C4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71-5D13-409E-8970-A7AE5C4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00FE-D0A0-4157-A548-15F105D327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Esercitazione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ilizzo di un array per la visualizzazione de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parametr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gli usi di htp… con ModGU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‘1985’,’OttantaCinque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e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2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9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0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51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52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57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58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59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0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cominciar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~ghelli/bdl09/esercizi/ese3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oppure visitare la pagina http://www.di.unipi.it/~ghelli/didattica/bdl09/bdl09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sqlDevelo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mettersi in p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qlDeveloper apro e compilo i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create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insert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macs o wordpa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stituisco tutte le occorrenze di XXX e MioAccountOracle con il mio nome nome_utente e sal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ico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 ese2/ese2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69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pks, modGUI.pkb, ese3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se le modifiche sono avvenute controllando i pacchetti P_ESE3 e MODG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2.cli.di.unipi.it/pls/mioAccountOracle.p_ese3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60020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2bdl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2.cli.di.unipi.it/pls/MioAccountOracle.p_ese3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ghelli</cp:lastModifiedBy>
  <dcterms:modified xsi:type="dcterms:W3CDTF">2009-04-23T10:31:49Z</dcterms:modified>
  <cp:revision>52</cp:revision>
  <dc:subject/>
  <dc:title>Operazione immissione persona</dc:title>
</cp:coreProperties>
</file>